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738-1A42-4759-8916-9CCD6A3C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756-7C1A-419E-81AA-DB1909AC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6D37-CDC7-41B9-B6C6-F8B33F5D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AA7-E915-4DF5-AA0C-1AAE5B66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8FEB-3984-4C07-9275-FB83B5CB6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20CA-9F60-4B59-8F2C-E7F4D02B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E950-B9E2-4CEC-B827-23B7B2E2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093C-44C0-4092-80B4-A002265D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1EBD-86BC-4EC9-9CBD-E00F9072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2CC6-003A-4097-AD47-3C3EAA2F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8682-7987-481C-AB29-840282D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B4FB-BD32-40B9-A8C5-B81A7102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6D2A-E159-42A3-A3F4-1D3C695E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BD42-A45F-4277-A45F-AEBB522D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5EDB-9F96-4A9B-845A-EBE834FE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C7C1-94FE-41AF-967F-401B5D3C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31C6-6816-4814-A6D5-ACE0D4E5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0689-84F6-49A8-97AD-E8824C4B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6C95-62A5-428E-A75C-DE9EA33D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E5A9-BD21-4713-8AD1-9B289A70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8533-B65C-47E8-86B2-EA6048AD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15BC-187D-4222-8D17-4B0DA8F1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9BA-19A8-4063-A8E4-4E6CF0A1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4E1B-F713-4F0A-AE78-70909B46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A4C3-945E-46FC-A537-2885683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BAB3-0087-48F2-9AB7-E45DDD0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FAEF-A9D7-4151-B717-65760AC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42FF-6EF3-4931-A8BD-ED3A5112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32DE2-F12E-43E7-975E-7FAD6189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281B-2EE1-47F9-8AA0-16E26EA7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85D8-E0CC-4162-B02D-C925367F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A1F5-D015-43F0-95AF-0D68563F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53A9-2B24-4084-A623-9FE144E6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C8F-FA74-44DC-96C5-9A96E3D9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105AF-6CD3-4DFE-8C47-0FAF5980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D7840-862F-409D-BF1C-05E5A66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6D40-C299-48D8-815B-E5CB582D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5603C-24DA-4B18-953B-9A8A2604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FA28-DDED-4CE9-B852-8D3B177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78477-DAC1-4DC4-9BD1-F910D6C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2C2CC-279D-4372-964A-C89D2275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D0C9-F0C2-44B7-87E1-06305D30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41FF-E252-4118-BF71-88942ADA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92829-605C-49AF-B4C5-A9BAFD51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4EA-8887-4471-9594-4D0BCC2F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95DFD-8111-48AF-9602-51AD6CE0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E53D-6E6B-4F6B-A205-95C7B9C7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21423-485A-48D4-9742-E96C8F28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C4A2C-C5DC-49C1-B2DE-3D7C1BCA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D9FE5-9864-4D8A-A63B-94D37364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EA803-5C6E-4EEF-84CC-807569DD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E5059-6B39-472E-B278-3C080EAD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97A3A-3F6D-459A-9528-51C887CC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32631-FD48-43B3-B36B-19266D83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4E434-34ED-40CB-8BBE-ABC892D4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D55E-3219-4984-80DA-DE06EC4D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158C8-B0ED-419F-ADCE-AC44712E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D3D62-1A03-4F9E-AF92-F929FC76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24F1A-C063-457D-82FE-5A9D7142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7F0D5-879A-4846-8CCD-F44C8EFB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6C8C7-FCE1-49F5-BFFD-CE9BF977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AF65F-AC7B-49D2-8D24-24CE34CF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9E79C-AE41-4E98-AE9A-8FB23474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BE0B0-428D-488F-9C50-D64BFB21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DF1C3-82A0-4904-AFE6-6DCE409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2D821-6205-42EB-8C68-1081C28B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806-5BFA-4798-93B8-F010B9F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4E59-FBB9-4DEC-999C-2CB68BBE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D5405-F86F-47F8-BFFF-C545C11E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199DB-D293-4F51-9B8A-46FB5E29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B7144-275F-4F4A-866B-49FE561F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50E17-9A83-4A70-B966-9B2C7138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1E6AD-02C8-4155-A84C-2271EE0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81810-490A-4D13-8A98-1E51BECA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33B4-138E-408B-92E3-ECB54B1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90BA-4484-4FD8-B948-4A36E7FD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F77A7-4EBD-4AFA-81C5-7BD252CC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9C1-6B54-4C2D-8D21-FA13608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E14B4-C0AB-4908-B9A0-39E85A4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ADACE-C7AB-4B37-860E-5F40F8C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38D46-74B8-4D25-8208-BE4E7649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6A1D1-059E-44B1-A542-353FFD9B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C4557-D139-4838-86C3-C2A8D427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C855C-9AC6-4DD2-8C41-01A1A3EC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FBFB4-0421-4F48-A35D-88D5041C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E3636-76FB-46CE-9911-0FE9F7D8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9EACC-31CA-4ED4-AD48-0A8221B9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1348C-0D60-4F42-8D12-03A9DB3D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0C5-A421-4678-A0FC-1472675C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07F5E-1C9C-42F0-9319-F63874CB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0166B-49D6-40E1-ACB0-11F4B98D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92912-B227-4CC8-B20F-54E22DB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20C13-4EAF-44DD-B861-A039989D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03500-C6F0-4DED-B3D3-A912F07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79788-64BC-4445-9B9F-9EAC7496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B1004-7DA3-41D8-A262-F656C2CF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7426-AF6F-4918-A627-8DCBE98C3FB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140-04FA-4DC2-83E2-6525C193EF0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D289-475C-4323-91B1-5D954F910F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8E7A-110E-4E89-8198-9C9268C2EA0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918B-9A74-458A-B9D1-AADDA4711F7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7EC7-9726-466C-9F7D-A8C3B438EDB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EE93-4617-40F1-AD68-FEDEF3183A8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1809-A9AB-4394-945D-372090285AB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0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371" name="Rectangle 3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2" name="Rectangle 4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3" name="Rectangle 5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4" name="Rectangle 6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5" name="Rectangle 7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78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Rounded Rectangle 16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Rounded Rectangle 17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Rounded Rectangle 19"/>
          <p:cNvSpPr/>
          <p:nvPr/>
        </p:nvSpPr>
        <p:spPr>
          <a:xfrm>
            <a:off x="1828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Rounded Rectangle 21"/>
          <p:cNvSpPr/>
          <p:nvPr/>
        </p:nvSpPr>
        <p:spPr>
          <a:xfrm>
            <a:off x="18288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Rounded Rectangle 22"/>
          <p:cNvSpPr/>
          <p:nvPr/>
        </p:nvSpPr>
        <p:spPr>
          <a:xfrm>
            <a:off x="6629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Rounded Rectangle 23"/>
          <p:cNvSpPr/>
          <p:nvPr/>
        </p:nvSpPr>
        <p:spPr>
          <a:xfrm>
            <a:off x="6934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Rounded Rectangle 24"/>
          <p:cNvSpPr/>
          <p:nvPr/>
        </p:nvSpPr>
        <p:spPr>
          <a:xfrm>
            <a:off x="6629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10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389" name="Rectangle 3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0" name="Rectangle 4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2" name="Rectangle 6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3" name="Rectangle 7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4" name="Oval 8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395" name="Oval 9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396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Rounded Rectangle 16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Rounded Rectangle 17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Rounded Rectangle 19"/>
          <p:cNvSpPr/>
          <p:nvPr/>
        </p:nvSpPr>
        <p:spPr>
          <a:xfrm>
            <a:off x="1828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Rounded Rectangle 21"/>
          <p:cNvSpPr/>
          <p:nvPr/>
        </p:nvSpPr>
        <p:spPr>
          <a:xfrm>
            <a:off x="18288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Rounded Rectangle 22"/>
          <p:cNvSpPr/>
          <p:nvPr/>
        </p:nvSpPr>
        <p:spPr>
          <a:xfrm>
            <a:off x="6629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Rounded Rectangle 23"/>
          <p:cNvSpPr/>
          <p:nvPr/>
        </p:nvSpPr>
        <p:spPr>
          <a:xfrm>
            <a:off x="6934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Rounded Rectangle 24"/>
          <p:cNvSpPr/>
          <p:nvPr/>
        </p:nvSpPr>
        <p:spPr>
          <a:xfrm>
            <a:off x="6629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Rounded Rectangle 20"/>
          <p:cNvSpPr/>
          <p:nvPr/>
        </p:nvSpPr>
        <p:spPr>
          <a:xfrm>
            <a:off x="18288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Rounded Rectangle 25"/>
          <p:cNvSpPr/>
          <p:nvPr/>
        </p:nvSpPr>
        <p:spPr>
          <a:xfrm>
            <a:off x="2133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Rounded Rectangle 26"/>
          <p:cNvSpPr/>
          <p:nvPr/>
        </p:nvSpPr>
        <p:spPr>
          <a:xfrm>
            <a:off x="21337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Rounded Rectangle 27"/>
          <p:cNvSpPr/>
          <p:nvPr/>
        </p:nvSpPr>
        <p:spPr>
          <a:xfrm>
            <a:off x="12952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Rounded Rectangle 28"/>
          <p:cNvSpPr/>
          <p:nvPr/>
        </p:nvSpPr>
        <p:spPr>
          <a:xfrm>
            <a:off x="990720" y="261936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Rounded Rectangle 29"/>
          <p:cNvSpPr/>
          <p:nvPr/>
        </p:nvSpPr>
        <p:spPr>
          <a:xfrm>
            <a:off x="76960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Rounded Rectangle 30"/>
          <p:cNvSpPr/>
          <p:nvPr/>
        </p:nvSpPr>
        <p:spPr>
          <a:xfrm>
            <a:off x="69343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Rounded Rectangle 31"/>
          <p:cNvSpPr/>
          <p:nvPr/>
        </p:nvSpPr>
        <p:spPr>
          <a:xfrm>
            <a:off x="66294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Rounded Rectangle 32"/>
          <p:cNvSpPr/>
          <p:nvPr/>
        </p:nvSpPr>
        <p:spPr>
          <a:xfrm>
            <a:off x="69343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4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16" name="Rectangle 5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23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Rounded Rectangle 15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Rounded Rectangle 16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Rounded Rectangle 17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Rounded Rectangle 18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Rounded Rectangle 19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34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6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8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39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41" name="Rounded Rectangle 11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Rounded Rectangle 12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Rounded Rectangle 13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Rounded Rectangle 14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Rounded Rectangle 15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Rounded Rectangle 16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Rounded Rectangle 17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Rounded Rectangle 18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49" name="Group 22"/>
          <p:cNvGrpSpPr/>
          <p:nvPr/>
        </p:nvGrpSpPr>
        <p:grpSpPr>
          <a:xfrm>
            <a:off x="533520" y="609480"/>
            <a:ext cx="2685960" cy="4496040"/>
            <a:chOff x="533520" y="609480"/>
            <a:chExt cx="2685960" cy="4496040"/>
          </a:xfrm>
        </p:grpSpPr>
        <p:pic>
          <p:nvPicPr>
            <p:cNvPr id="450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26859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Arc 21"/>
            <p:cNvSpPr/>
            <p:nvPr/>
          </p:nvSpPr>
          <p:spPr>
            <a:xfrm>
              <a:off x="1371600" y="22860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52" name="Rounded Rectangle 23"/>
          <p:cNvSpPr/>
          <p:nvPr/>
        </p:nvSpPr>
        <p:spPr>
          <a:xfrm>
            <a:off x="1371600" y="14000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Rounded Rectangle 24"/>
          <p:cNvSpPr/>
          <p:nvPr/>
        </p:nvSpPr>
        <p:spPr>
          <a:xfrm>
            <a:off x="1676520" y="140004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Rounded Rectangle 25"/>
          <p:cNvSpPr/>
          <p:nvPr/>
        </p:nvSpPr>
        <p:spPr>
          <a:xfrm>
            <a:off x="1981080" y="14000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Rounded Rectangle 26"/>
          <p:cNvSpPr/>
          <p:nvPr/>
        </p:nvSpPr>
        <p:spPr>
          <a:xfrm>
            <a:off x="1676520" y="10954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4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59" name="Rectangle 5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1" name="Rectangle 7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2" name="Rectangle 8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4" name="Oval 10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65" name="Oval 11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66" name="Rounded Rectangle 12"/>
          <p:cNvSpPr/>
          <p:nvPr/>
        </p:nvSpPr>
        <p:spPr>
          <a:xfrm>
            <a:off x="987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Rounded Rectangle 13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Rounded Rectangle 14"/>
          <p:cNvSpPr/>
          <p:nvPr/>
        </p:nvSpPr>
        <p:spPr>
          <a:xfrm>
            <a:off x="9907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Rounded Rectangle 15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Rounded Rectangle 16"/>
          <p:cNvSpPr/>
          <p:nvPr/>
        </p:nvSpPr>
        <p:spPr>
          <a:xfrm>
            <a:off x="12952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Rounded Rectangle 17"/>
          <p:cNvSpPr/>
          <p:nvPr/>
        </p:nvSpPr>
        <p:spPr>
          <a:xfrm>
            <a:off x="17524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Rounded Rectangle 18"/>
          <p:cNvSpPr/>
          <p:nvPr/>
        </p:nvSpPr>
        <p:spPr>
          <a:xfrm>
            <a:off x="175572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3" name="Rounded Rectangle 19"/>
          <p:cNvSpPr/>
          <p:nvPr/>
        </p:nvSpPr>
        <p:spPr>
          <a:xfrm>
            <a:off x="206064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Rounded Rectangle 27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Rounded Rectangle 28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77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8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79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80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81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484" name="Rounded Rectangle 11"/>
          <p:cNvSpPr/>
          <p:nvPr/>
        </p:nvSpPr>
        <p:spPr>
          <a:xfrm>
            <a:off x="9144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Rounded Rectangle 12"/>
          <p:cNvSpPr/>
          <p:nvPr/>
        </p:nvSpPr>
        <p:spPr>
          <a:xfrm>
            <a:off x="9144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Rounded Rectangle 13"/>
          <p:cNvSpPr/>
          <p:nvPr/>
        </p:nvSpPr>
        <p:spPr>
          <a:xfrm>
            <a:off x="12193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Rounded Rectangle 14"/>
          <p:cNvSpPr/>
          <p:nvPr/>
        </p:nvSpPr>
        <p:spPr>
          <a:xfrm>
            <a:off x="12193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Rounded Rectangle 15"/>
          <p:cNvSpPr/>
          <p:nvPr/>
        </p:nvSpPr>
        <p:spPr>
          <a:xfrm>
            <a:off x="9144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Rounded Rectangle 16"/>
          <p:cNvSpPr/>
          <p:nvPr/>
        </p:nvSpPr>
        <p:spPr>
          <a:xfrm>
            <a:off x="19810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Rounded Rectangle 17"/>
          <p:cNvSpPr/>
          <p:nvPr/>
        </p:nvSpPr>
        <p:spPr>
          <a:xfrm>
            <a:off x="16765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Rounded Rectangle 18"/>
          <p:cNvSpPr/>
          <p:nvPr/>
        </p:nvSpPr>
        <p:spPr>
          <a:xfrm>
            <a:off x="16765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Rounded Rectangle 19"/>
          <p:cNvSpPr/>
          <p:nvPr/>
        </p:nvSpPr>
        <p:spPr>
          <a:xfrm>
            <a:off x="68580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Rounded Rectangle 20"/>
          <p:cNvSpPr/>
          <p:nvPr/>
        </p:nvSpPr>
        <p:spPr>
          <a:xfrm>
            <a:off x="71629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Rounded Rectangle 21"/>
          <p:cNvSpPr/>
          <p:nvPr/>
        </p:nvSpPr>
        <p:spPr>
          <a:xfrm>
            <a:off x="68580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ounded Rectangle 22"/>
          <p:cNvSpPr/>
          <p:nvPr/>
        </p:nvSpPr>
        <p:spPr>
          <a:xfrm>
            <a:off x="12193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Rounded Rectangle 23"/>
          <p:cNvSpPr/>
          <p:nvPr/>
        </p:nvSpPr>
        <p:spPr>
          <a:xfrm>
            <a:off x="76201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Rounded Rectangle 24"/>
          <p:cNvSpPr/>
          <p:nvPr/>
        </p:nvSpPr>
        <p:spPr>
          <a:xfrm>
            <a:off x="76201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Rounded Rectangle 25"/>
          <p:cNvSpPr/>
          <p:nvPr/>
        </p:nvSpPr>
        <p:spPr>
          <a:xfrm>
            <a:off x="6858000" y="26668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Rounded Rectangle 26"/>
          <p:cNvSpPr/>
          <p:nvPr/>
        </p:nvSpPr>
        <p:spPr>
          <a:xfrm>
            <a:off x="71629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Rounded Rectangle 27"/>
          <p:cNvSpPr/>
          <p:nvPr/>
        </p:nvSpPr>
        <p:spPr>
          <a:xfrm>
            <a:off x="685800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Rounded Rectangle 28"/>
          <p:cNvSpPr/>
          <p:nvPr/>
        </p:nvSpPr>
        <p:spPr>
          <a:xfrm>
            <a:off x="71629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Rounded Rectangle 29"/>
          <p:cNvSpPr/>
          <p:nvPr/>
        </p:nvSpPr>
        <p:spPr>
          <a:xfrm>
            <a:off x="64008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Rounded Rectangle 30"/>
          <p:cNvSpPr/>
          <p:nvPr/>
        </p:nvSpPr>
        <p:spPr>
          <a:xfrm>
            <a:off x="7620120" y="261936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Rounded Rectangle 31"/>
          <p:cNvSpPr/>
          <p:nvPr/>
        </p:nvSpPr>
        <p:spPr>
          <a:xfrm>
            <a:off x="79246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Rounded Rectangle 32"/>
          <p:cNvSpPr/>
          <p:nvPr/>
        </p:nvSpPr>
        <p:spPr>
          <a:xfrm>
            <a:off x="7620120" y="2895480"/>
            <a:ext cx="30456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Rounded Rectangle 33"/>
          <p:cNvSpPr/>
          <p:nvPr/>
        </p:nvSpPr>
        <p:spPr>
          <a:xfrm>
            <a:off x="79246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Rounded Rectangle 34"/>
          <p:cNvSpPr/>
          <p:nvPr/>
        </p:nvSpPr>
        <p:spPr>
          <a:xfrm>
            <a:off x="7924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509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0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1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2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3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4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15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16" name="Rounded Rectangle 11"/>
          <p:cNvSpPr/>
          <p:nvPr/>
        </p:nvSpPr>
        <p:spPr>
          <a:xfrm>
            <a:off x="990720" y="342900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Rounded Rectangle 12"/>
          <p:cNvSpPr/>
          <p:nvPr/>
        </p:nvSpPr>
        <p:spPr>
          <a:xfrm>
            <a:off x="990720" y="315288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Rounded Rectangle 13"/>
          <p:cNvSpPr/>
          <p:nvPr/>
        </p:nvSpPr>
        <p:spPr>
          <a:xfrm>
            <a:off x="12952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9" name="Group 14"/>
          <p:cNvGrpSpPr/>
          <p:nvPr/>
        </p:nvGrpSpPr>
        <p:grpSpPr>
          <a:xfrm>
            <a:off x="533520" y="609480"/>
            <a:ext cx="2685960" cy="4496040"/>
            <a:chOff x="533520" y="609480"/>
            <a:chExt cx="2685960" cy="4496040"/>
          </a:xfrm>
        </p:grpSpPr>
        <p:pic>
          <p:nvPicPr>
            <p:cNvPr id="520" name="Picture 2" descr=""/>
            <p:cNvPicPr/>
            <p:nvPr/>
          </p:nvPicPr>
          <p:blipFill>
            <a:blip r:embed="rId1"/>
            <a:stretch/>
          </p:blipFill>
          <p:spPr>
            <a:xfrm>
              <a:off x="533520" y="609480"/>
              <a:ext cx="26859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Arc 16"/>
            <p:cNvSpPr/>
            <p:nvPr/>
          </p:nvSpPr>
          <p:spPr>
            <a:xfrm>
              <a:off x="1371600" y="2286000"/>
              <a:ext cx="1295280" cy="2819520"/>
            </a:xfrm>
            <a:prstGeom prst="pie">
              <a:avLst/>
            </a:prstGeom>
            <a:noFill/>
            <a:ln w="2844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522" name="Rounded Rectangle 17"/>
          <p:cNvSpPr/>
          <p:nvPr/>
        </p:nvSpPr>
        <p:spPr>
          <a:xfrm>
            <a:off x="1371600" y="144792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Rounded Rectangle 18"/>
          <p:cNvSpPr/>
          <p:nvPr/>
        </p:nvSpPr>
        <p:spPr>
          <a:xfrm>
            <a:off x="1676520" y="1447920"/>
            <a:ext cx="30456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Rounded Rectangle 19"/>
          <p:cNvSpPr/>
          <p:nvPr/>
        </p:nvSpPr>
        <p:spPr>
          <a:xfrm>
            <a:off x="1981080" y="144792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Rounded Rectangle 20"/>
          <p:cNvSpPr/>
          <p:nvPr/>
        </p:nvSpPr>
        <p:spPr>
          <a:xfrm>
            <a:off x="1523880" y="11714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Rounded Rectangle 21"/>
          <p:cNvSpPr/>
          <p:nvPr/>
        </p:nvSpPr>
        <p:spPr>
          <a:xfrm>
            <a:off x="1828800" y="117144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Rounded Rectangle 22"/>
          <p:cNvSpPr/>
          <p:nvPr/>
        </p:nvSpPr>
        <p:spPr>
          <a:xfrm>
            <a:off x="67816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Rounded Rectangle 23"/>
          <p:cNvSpPr/>
          <p:nvPr/>
        </p:nvSpPr>
        <p:spPr>
          <a:xfrm>
            <a:off x="678168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Rounded Rectangle 24"/>
          <p:cNvSpPr/>
          <p:nvPr/>
        </p:nvSpPr>
        <p:spPr>
          <a:xfrm>
            <a:off x="708660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Rounded Rectangle 25"/>
          <p:cNvSpPr/>
          <p:nvPr/>
        </p:nvSpPr>
        <p:spPr>
          <a:xfrm>
            <a:off x="7086600" y="315288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Rounded Rectangle 26"/>
          <p:cNvSpPr/>
          <p:nvPr/>
        </p:nvSpPr>
        <p:spPr>
          <a:xfrm>
            <a:off x="6781680" y="2895480"/>
            <a:ext cx="304920" cy="27648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Rounded Rectangle 27"/>
          <p:cNvSpPr/>
          <p:nvPr/>
        </p:nvSpPr>
        <p:spPr>
          <a:xfrm>
            <a:off x="7696080" y="3429000"/>
            <a:ext cx="304920" cy="276120"/>
          </a:xfrm>
          <a:prstGeom prst="roundRect">
            <a:avLst>
              <a:gd name="adj" fmla="val 16667"/>
            </a:avLst>
          </a:prstGeom>
          <a:solidFill>
            <a:srgbClr val="a3171e"/>
          </a:solidFill>
          <a:ln w="55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1371600" y="990720"/>
            <a:ext cx="6400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5 + (-6) = ________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7 – (-10) = ________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5 + 8 – (+7) = ________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12 + 7 – 8 – (-4) = ________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4:57:09Z</dcterms:created>
  <dc:creator>Jennifer Schwinghammer</dc:creator>
  <dc:description/>
  <dc:language>en-US</dc:language>
  <cp:lastModifiedBy>Jennifer Schwinghammer</cp:lastModifiedBy>
  <dcterms:modified xsi:type="dcterms:W3CDTF">2008-05-31T00:28:05Z</dcterms:modified>
  <cp:revision>12</cp:revision>
  <dc:subject/>
  <dc:title>Slide 1</dc:title>
</cp:coreProperties>
</file>